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7A87F-66ED-48E6-9C7A-1AA199EAA5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1E0C7-ACD5-4DA5-8A8D-A1FB87C51D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7EE44-776D-4789-8A6B-39B73BCF4B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B8101-DD93-4757-A377-474DC830A3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69117-D1D1-4DF8-89DB-E909E16F7B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7E192-AD8F-4B4E-A404-718C513B6F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21764-63E6-401C-B58A-9B59960150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CD78-1155-4246-BA1C-E8C2C631BD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5E4C-9B56-42B4-81BD-0408FCB1F2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C3307-343A-4A9D-9560-807BCE3597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D94EC-D823-4C4F-B9A8-0A0ECFCB37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C543-4ECE-4798-8DDE-D50BFC15B8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8B22-681D-4CCB-A164-3B8054C5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79B5-463E-4219-8984-95E5D021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04B6-294D-4156-A0F6-0DC71472D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77AC-2C23-487B-A4F2-B2299BC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CC93-9B41-45FB-91FC-A7D3C75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9F9B-7DFD-4332-8DBE-A7224DBE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5618-928E-4D54-AA84-5F147C65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221D-B3D2-4323-A3B8-C6B4D5B1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CDA3-FBBD-42B5-86D3-1CDA3380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FE44-2514-4756-9129-01574D87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E4B0-7EA0-450D-9ACE-F9D8AE9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BD45BF-C2DD-4F1C-A4E4-FE6269D86FA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660840" y="4932360"/>
            <a:ext cx="112716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811840" y="1944720"/>
            <a:ext cx="2935440" cy="37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5616720" y="1440000"/>
            <a:ext cx="755640" cy="140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395280" y="1908000"/>
            <a:ext cx="3216240" cy="388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572000" y="1584360"/>
            <a:ext cx="720720" cy="12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6"/>
          <a:stretch/>
        </p:blipFill>
        <p:spPr>
          <a:xfrm>
            <a:off x="3446640" y="1800360"/>
            <a:ext cx="693720" cy="10317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7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984240" y="90360"/>
            <a:ext cx="76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719280" y="57196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met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012000" y="7650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imagen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proceso paso 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 flipH="1">
            <a:off x="2536920" y="540072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 flipH="1" rot="21180000">
            <a:off x="4876920" y="5291280"/>
            <a:ext cx="882360" cy="317520"/>
          </a:xfrm>
          <a:prstGeom prst="rightArrow">
            <a:avLst>
              <a:gd name="adj1" fmla="val 50000"/>
              <a:gd name="adj2" fmla="val 69473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 flipH="1" rot="8220000">
            <a:off x="3147840" y="2695680"/>
            <a:ext cx="508320" cy="317520"/>
          </a:xfrm>
          <a:prstGeom prst="rightArrow">
            <a:avLst>
              <a:gd name="adj1" fmla="val 50000"/>
              <a:gd name="adj2" fmla="val 40023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 flipH="1" rot="10740000">
            <a:off x="4114080" y="2125800"/>
            <a:ext cx="507960" cy="317160"/>
          </a:xfrm>
          <a:prstGeom prst="rightArrow">
            <a:avLst>
              <a:gd name="adj1" fmla="val 50000"/>
              <a:gd name="adj2" fmla="val 40040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 flipH="1" rot="10740000">
            <a:off x="5193720" y="2125800"/>
            <a:ext cx="507960" cy="317160"/>
          </a:xfrm>
          <a:prstGeom prst="rightArrow">
            <a:avLst>
              <a:gd name="adj1" fmla="val 50000"/>
              <a:gd name="adj2" fmla="val 40040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 flipH="1" rot="12000000">
            <a:off x="6389640" y="245592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240000" y="3919680"/>
            <a:ext cx="12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meto femen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22"/>
          <p:cNvSpPr/>
          <p:nvPr/>
        </p:nvSpPr>
        <p:spPr>
          <a:xfrm>
            <a:off x="3111480" y="3678120"/>
            <a:ext cx="314280" cy="287280"/>
          </a:xfrm>
          <a:custGeom>
            <a:avLst/>
            <a:gdLst>
              <a:gd name="textAreaLeft" fmla="*/ 0 w 314280"/>
              <a:gd name="textAreaRight" fmla="*/ 314640 w 314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874" h="799">
                <a:moveTo>
                  <a:pt x="873" y="79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232000" y="147168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meto Mascul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24"/>
          <p:cNvSpPr/>
          <p:nvPr/>
        </p:nvSpPr>
        <p:spPr>
          <a:xfrm>
            <a:off x="2583000" y="1979640"/>
            <a:ext cx="123840" cy="406440"/>
          </a:xfrm>
          <a:custGeom>
            <a:avLst/>
            <a:gdLst>
              <a:gd name="textAreaLeft" fmla="*/ 0 w 123840"/>
              <a:gd name="textAreaRight" fmla="*/ 124200 w 123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45" h="1130">
                <a:moveTo>
                  <a:pt x="344" y="0"/>
                </a:moveTo>
                <a:lnTo>
                  <a:pt x="0" y="11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5435640" y="270828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por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381800" y="180180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por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020000" y="499896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p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28"/>
          <p:cNvSpPr/>
          <p:nvPr/>
        </p:nvSpPr>
        <p:spPr>
          <a:xfrm>
            <a:off x="6889680" y="4740120"/>
            <a:ext cx="496800" cy="306720"/>
          </a:xfrm>
          <a:custGeom>
            <a:avLst/>
            <a:gdLst>
              <a:gd name="textAreaLeft" fmla="*/ 0 w 496800"/>
              <a:gd name="textAreaRight" fmla="*/ 497160 w 4968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381" h="853">
                <a:moveTo>
                  <a:pt x="1380" y="85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29"/>
          <p:cNvSpPr/>
          <p:nvPr/>
        </p:nvSpPr>
        <p:spPr>
          <a:xfrm>
            <a:off x="6807240" y="4484520"/>
            <a:ext cx="579240" cy="562320"/>
          </a:xfrm>
          <a:custGeom>
            <a:avLst/>
            <a:gdLst>
              <a:gd name="textAreaLeft" fmla="*/ 0 w 579240"/>
              <a:gd name="textAreaRight" fmla="*/ 579600 w 5792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1610" h="1563">
                <a:moveTo>
                  <a:pt x="1609" y="156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30"/>
          <p:cNvSpPr/>
          <p:nvPr/>
        </p:nvSpPr>
        <p:spPr>
          <a:xfrm>
            <a:off x="2700360" y="1979640"/>
            <a:ext cx="106200" cy="636480"/>
          </a:xfrm>
          <a:custGeom>
            <a:avLst/>
            <a:gdLst>
              <a:gd name="textAreaLeft" fmla="*/ 0 w 106200"/>
              <a:gd name="textAreaRight" fmla="*/ 106560 w 10620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296" h="1769">
                <a:moveTo>
                  <a:pt x="0" y="0"/>
                </a:moveTo>
                <a:lnTo>
                  <a:pt x="295" y="1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680000" y="575928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met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3959280" y="301932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33"/>
          <p:cNvSpPr/>
          <p:nvPr/>
        </p:nvSpPr>
        <p:spPr>
          <a:xfrm>
            <a:off x="3809880" y="2390760"/>
            <a:ext cx="292320" cy="658800"/>
          </a:xfrm>
          <a:custGeom>
            <a:avLst/>
            <a:gdLst>
              <a:gd name="textAreaLeft" fmla="*/ 0 w 292320"/>
              <a:gd name="textAreaRight" fmla="*/ 292680 w 292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813" h="1831">
                <a:moveTo>
                  <a:pt x="812" y="183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34"/>
          <p:cNvSpPr/>
          <p:nvPr/>
        </p:nvSpPr>
        <p:spPr>
          <a:xfrm>
            <a:off x="7891560" y="2138400"/>
            <a:ext cx="311040" cy="284040"/>
          </a:xfrm>
          <a:custGeom>
            <a:avLst/>
            <a:gdLst>
              <a:gd name="textAreaLeft" fmla="*/ 0 w 311040"/>
              <a:gd name="textAreaRight" fmla="*/ 311400 w 3110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865" h="790">
                <a:moveTo>
                  <a:pt x="0" y="0"/>
                </a:moveTo>
                <a:lnTo>
                  <a:pt x="864" y="7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35 CuadroTexto"/>
          <p:cNvSpPr/>
          <p:nvPr/>
        </p:nvSpPr>
        <p:spPr>
          <a:xfrm>
            <a:off x="3924360" y="1484280"/>
            <a:ext cx="2872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36 CuadroTexto"/>
          <p:cNvSpPr/>
          <p:nvPr/>
        </p:nvSpPr>
        <p:spPr>
          <a:xfrm>
            <a:off x="6012000" y="4292640"/>
            <a:ext cx="2872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37 CuadroTexto"/>
          <p:cNvSpPr/>
          <p:nvPr/>
        </p:nvSpPr>
        <p:spPr>
          <a:xfrm>
            <a:off x="539640" y="5300640"/>
            <a:ext cx="2872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984240" y="90360"/>
            <a:ext cx="72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34920" y="127476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parte responsable de la reproducción sexual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u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gametos masculinos y femeninos, cuya unión dará lugar al esporof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Gametof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3119400" y="2700360"/>
            <a:ext cx="2749680" cy="3471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2340000" y="57592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00360" y="2879640"/>
            <a:ext cx="143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s sexuales masculi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119640" y="37926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s sexuales femeni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292720" y="24922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s masculinos. Necesitan agua para llegar a los órganos sexuales femenin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580000" y="48592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 femen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4"/>
          <p:cNvSpPr/>
          <p:nvPr/>
        </p:nvSpPr>
        <p:spPr>
          <a:xfrm>
            <a:off x="2725560" y="3192480"/>
            <a:ext cx="466920" cy="73080"/>
          </a:xfrm>
          <a:custGeom>
            <a:avLst/>
            <a:gdLst>
              <a:gd name="textAreaLeft" fmla="*/ 0 w 466920"/>
              <a:gd name="textAreaRight" fmla="*/ 467280 w 466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98" h="204">
                <a:moveTo>
                  <a:pt x="0" y="0"/>
                </a:moveTo>
                <a:lnTo>
                  <a:pt x="1297" y="2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5"/>
          <p:cNvSpPr/>
          <p:nvPr/>
        </p:nvSpPr>
        <p:spPr>
          <a:xfrm>
            <a:off x="5864400" y="4129200"/>
            <a:ext cx="276120" cy="19080"/>
          </a:xfrm>
          <a:custGeom>
            <a:avLst/>
            <a:gdLst>
              <a:gd name="textAreaLeft" fmla="*/ 0 w 276120"/>
              <a:gd name="textAreaRight" fmla="*/ 276480 w 2761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68" h="54">
                <a:moveTo>
                  <a:pt x="767" y="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6"/>
          <p:cNvSpPr/>
          <p:nvPr/>
        </p:nvSpPr>
        <p:spPr>
          <a:xfrm>
            <a:off x="5435640" y="4257720"/>
            <a:ext cx="438120" cy="649080"/>
          </a:xfrm>
          <a:custGeom>
            <a:avLst/>
            <a:gdLst>
              <a:gd name="textAreaLeft" fmla="*/ 0 w 438120"/>
              <a:gd name="textAreaRight" fmla="*/ 438480 w 4381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1218" h="1804">
                <a:moveTo>
                  <a:pt x="1217" y="180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7"/>
          <p:cNvSpPr/>
          <p:nvPr/>
        </p:nvSpPr>
        <p:spPr>
          <a:xfrm>
            <a:off x="4915080" y="2816280"/>
            <a:ext cx="347400" cy="201600"/>
          </a:xfrm>
          <a:custGeom>
            <a:avLst/>
            <a:gdLst>
              <a:gd name="textAreaLeft" fmla="*/ 0 w 347400"/>
              <a:gd name="textAreaRight" fmla="*/ 347760 w 3474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66" h="561">
                <a:moveTo>
                  <a:pt x="965" y="0"/>
                </a:moveTo>
                <a:lnTo>
                  <a:pt x="0" y="5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>
            <a:off x="5124600" y="2816280"/>
            <a:ext cx="137880" cy="420480"/>
          </a:xfrm>
          <a:custGeom>
            <a:avLst/>
            <a:gdLst>
              <a:gd name="textAreaLeft" fmla="*/ 0 w 137880"/>
              <a:gd name="textAreaRight" fmla="*/ 138240 w 1378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84" h="1169">
                <a:moveTo>
                  <a:pt x="383" y="0"/>
                </a:moveTo>
                <a:lnTo>
                  <a:pt x="0" y="11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984240" y="90360"/>
            <a:ext cx="71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934920" y="1274760"/>
            <a:ext cx="727236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resultado de la unión de dos gametos, uno masculino y otro femen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arrollo dará lugar al esporof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igo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1260360" y="4079880"/>
            <a:ext cx="900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855360" cy="13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5219640" y="3780000"/>
            <a:ext cx="1079640" cy="1520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/>
          <p:cNvPicPr/>
          <p:nvPr/>
        </p:nvPicPr>
        <p:blipFill>
          <a:blip r:embed="rId5"/>
          <a:stretch/>
        </p:blipFill>
        <p:spPr>
          <a:xfrm>
            <a:off x="7346880" y="2371680"/>
            <a:ext cx="752400" cy="374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1979640" y="3419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i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1743120" y="3713040"/>
            <a:ext cx="411120" cy="1051200"/>
          </a:xfrm>
          <a:custGeom>
            <a:avLst/>
            <a:gdLst>
              <a:gd name="textAreaLeft" fmla="*/ 0 w 411120"/>
              <a:gd name="textAreaRight" fmla="*/ 411480 w 411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1143" h="2921">
                <a:moveTo>
                  <a:pt x="1142" y="0"/>
                </a:moveTo>
                <a:lnTo>
                  <a:pt x="0" y="29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 flipH="1" rot="10800000">
            <a:off x="2340000" y="454824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 flipH="1" rot="10800000">
            <a:off x="4429080" y="45100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 rot="10800000">
            <a:off x="6388200" y="45100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140360" y="355932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940360" y="229860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ofi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6813720" y="2633760"/>
            <a:ext cx="768240" cy="128520"/>
          </a:xfrm>
          <a:custGeom>
            <a:avLst/>
            <a:gdLst>
              <a:gd name="textAreaLeft" fmla="*/ 0 w 768240"/>
              <a:gd name="textAreaRight" fmla="*/ 768600 w 7682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35" h="358">
                <a:moveTo>
                  <a:pt x="0" y="0"/>
                </a:moveTo>
                <a:lnTo>
                  <a:pt x="2134" y="3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984240" y="90360"/>
            <a:ext cx="76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34920" y="1274760"/>
            <a:ext cx="72723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parte responsable de la reproducción asexual (por esporas) en el mu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ce siempre encima del gametof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esporas que darán lugar a nuevos gametofi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sporof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5580000" y="270036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419640" y="485928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782640" y="3419640"/>
            <a:ext cx="1917720" cy="24177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1"/>
          <p:cNvSpPr/>
          <p:nvPr/>
        </p:nvSpPr>
        <p:spPr>
          <a:xfrm flipH="1">
            <a:off x="2465280" y="53290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 flipH="1">
            <a:off x="4859280" y="52624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724360" y="314172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4"/>
          <p:cNvSpPr/>
          <p:nvPr/>
        </p:nvSpPr>
        <p:spPr>
          <a:xfrm flipV="1">
            <a:off x="6877080" y="3146400"/>
            <a:ext cx="896760" cy="138240"/>
          </a:xfrm>
          <a:custGeom>
            <a:avLst/>
            <a:gdLst>
              <a:gd name="textAreaLeft" fmla="*/ 0 w 896760"/>
              <a:gd name="textAreaRight" fmla="*/ 897120 w 89676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1425" h="358">
                <a:moveTo>
                  <a:pt x="0" y="0"/>
                </a:moveTo>
                <a:lnTo>
                  <a:pt x="1424" y="3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038560" y="387828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6"/>
          <p:cNvSpPr/>
          <p:nvPr/>
        </p:nvSpPr>
        <p:spPr>
          <a:xfrm>
            <a:off x="5549760" y="4214880"/>
            <a:ext cx="933480" cy="904680"/>
          </a:xfrm>
          <a:custGeom>
            <a:avLst/>
            <a:gdLst>
              <a:gd name="textAreaLeft" fmla="*/ 0 w 933480"/>
              <a:gd name="textAreaRight" fmla="*/ 933840 w 9334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594" h="2514">
                <a:moveTo>
                  <a:pt x="0" y="0"/>
                </a:moveTo>
                <a:lnTo>
                  <a:pt x="2593" y="25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7"/>
          <p:cNvSpPr/>
          <p:nvPr/>
        </p:nvSpPr>
        <p:spPr>
          <a:xfrm>
            <a:off x="5549760" y="4216320"/>
            <a:ext cx="750960" cy="1271520"/>
          </a:xfrm>
          <a:custGeom>
            <a:avLst/>
            <a:gdLst>
              <a:gd name="textAreaLeft" fmla="*/ 0 w 750960"/>
              <a:gd name="textAreaRight" fmla="*/ 751320 w 750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2087" h="3533">
                <a:moveTo>
                  <a:pt x="0" y="0"/>
                </a:moveTo>
                <a:lnTo>
                  <a:pt x="2086" y="35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419640" y="445932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1619280" y="3419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fi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9:16Z</dcterms:modified>
  <cp:revision>49</cp:revision>
  <dc:subject/>
  <dc:title>Diapositiva 1</dc:title>
</cp:coreProperties>
</file>